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6.wmf" ContentType="image/x-wmf"/>
  <Override PartName="/ppt/media/image14.jpeg" ContentType="image/jpeg"/>
  <Override PartName="/ppt/media/image13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5.wmf" ContentType="image/x-wmf"/>
  <Override PartName="/ppt/media/image6.png" ContentType="image/png"/>
  <Override PartName="/ppt/media/chimes.wav" ContentType="audio/x-wav"/>
  <Override PartName="/ppt/media/image11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901-3518-40CA-A7D0-A8A85ADC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120-B313-48CA-A5CB-2293F35F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4C4-5DB2-4ABC-924B-E9A4D636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F5F-ED7C-4159-A03D-D6A06680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D00D-DA27-448F-9A29-3B2B9F68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91B0-6925-42C3-829A-B7EC45D4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920A-8D9D-41CC-8FAF-C0C79A17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8D5F-5BAE-4C22-9F1F-DB38B4FC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DBCB-DB17-464D-B3E0-910CBCDD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3766-EE98-4BD5-8F3E-055E0B63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7638-A8B1-4787-A0E4-6593A96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4BC-61A1-492E-A064-780D9A44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94C7-218F-4A20-B759-E5432135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697B-9DE7-4536-9642-DA80E711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69AC-6A5E-468E-AC87-F3BEA6AA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A384-03AE-44FA-9A88-51F818CF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4072-8AC8-4AC5-9DDC-C86B2C76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86B-0379-434C-A9DC-F2B555A9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77E-79A7-4176-B564-2FB7489E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41A-53AC-46AC-8361-A4298D6D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0B5-1195-4AF4-B1CC-D46A6F8A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53F-17B1-4B0F-B315-1465B94C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CEE-1DDE-41FE-8B56-24A63781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470-594A-4BA6-8388-3230AACD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63C1-19F7-4F93-9A10-770AC87F06D7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A149-23D2-40AD-86DF-EC2EFF7E4106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window.clearTimeout(_ht%5B8%5D)%3Bqs_show_frame(event,this,8)%3B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0" y="990720"/>
            <a:ext cx="5715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3360"/>
            <a:ext cx="4056120" cy="1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09480" y="3124080"/>
            <a:ext cx="2362320" cy="1844640"/>
            <a:chOff x="609480" y="3124080"/>
            <a:chExt cx="2362320" cy="1844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609480" y="3124080"/>
              <a:ext cx="118764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676520" y="3900600"/>
              <a:ext cx="1295280" cy="106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0" y="5591160"/>
            <a:ext cx="6458040" cy="1266840"/>
            <a:chOff x="0" y="5591160"/>
            <a:chExt cx="6458040" cy="126684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0" y="5591160"/>
              <a:ext cx="219060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267080" y="5646600"/>
              <a:ext cx="2190960" cy="12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2133720" y="5622840"/>
              <a:ext cx="2190600" cy="123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28600" y="5486400"/>
            <a:ext cx="175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考考你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4648320"/>
            <a:ext cx="884520" cy="1108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1447920"/>
            <a:ext cx="8991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判断题：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包装上的信息，能为我们科学、均衡、营养地选择食物提供帮助。（       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自身的特点、保存方法、配料等都会影响食品的保质期长短。（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保质期短的食物一定比保质期长的食物好。（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厂家生产食品时采用不同的包装，仅仅是为了美观，提高销量。（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5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、食品添加剂能改善食品的色香味，但是食用过多对人体有害。（          ）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2448000" cy="248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2514600" cy="250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752480" y="0"/>
            <a:ext cx="2590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认识吗？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3168720" cy="2535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4481640"/>
            <a:ext cx="22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362320" y="4494240"/>
            <a:ext cx="2819160" cy="2174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266472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：防腐剂我国允许使用的共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种。许多食品都含有防腐剂，过多或长期食用还有可能产生病变，形成有强烈致癌作用的物质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通常允许使用的绿色防腐剂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“山梨酸钾”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468440" cy="1730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267080" y="5562720"/>
            <a:ext cx="32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下课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5520" y="2039040"/>
            <a:ext cx="871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食品添加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</a:rPr>
              <a:t>是指为改善食品品质和色、香、味，以及为防腐和加工工艺的需要而加入食品中的化学合成或天然物质。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26650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转化糖浆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一种淡黄色透明液体，具有粘度小、溶解度与吸水性高、甜味好的特点。甜味为砂糖的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.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倍。蔗糖在受触媒催化，与水起分解作用，还原成葡糖糖和果糖。一分子的蔗糖水解后为一分子的葡萄糖及一分子的果糖，而蔗糖原有的旋光性也由左旋转为右旋，此转化后的混合物就是转化糖，反应结束后加入碱液中和酸性就得到转化糖浆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47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膨松剂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 化学膨松剂可以分为两种：一是碱性膨松剂，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如碳酸氢钠（小苏打）、碳酸氢铵（臭粉）；另一种是复合膨松剂，如钾明矾和铵明矾。碱性膨松剂在一定温度下在面团中缓慢分解，从而释放出二氧化碳，使面团膨胀；复合膨松剂则是由碱剂、酸剂与填充剂混合而成，在加热的面团中，酸和碱会产生反应释放出二氧化碳。我国最古老的油条，就是面粉中加入化学膨松剂明矾油炸而成。明矾中含有铝，对人体是极有危害的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加了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膨松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所以又松又脆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54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食用香精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参照天然食品的香味，采用天然和天然等同香料、合成香料经精心调配而成具有天然风味的各种香型的香精。包括水果类水质和油质、奶类、家禽类、肉类、蔬菜类、坚果类、蜜饯类、乳化类以及酒类等各种香精，适用于饮料、饼干、糕点、冷冻食品、糖果、调味料、乳制品、罐头、酒等食品中。食用香精的剂型有液体、粉末、微胶囊、浆状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94360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737720"/>
            <a:ext cx="896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乳化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是需要量较大的一种食品添加剂，世界食用乳化剂允许使用的品种约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余种，我国已批准使用的品种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种。主要品种有：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卵磷脂，属于从动植物提取的天然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和营养强化剂。主要品种是大豆卵磷脂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蔗糖脂肪酸酯。可以代替食用油，又不产生热量，不至使人发胖，还有降血清胆固醇等作用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）甘油脂肪酸酯等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6095880"/>
            <a:ext cx="1143000" cy="7621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39ba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4572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一、观察食品包装上的信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观察食品包装袋或包装盒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209680"/>
            <a:ext cx="81532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559085"/>
                </a:solidFill>
                <a:uFillTx/>
                <a:latin typeface="Arial"/>
                <a:hlinkClick r:id="rId1"/>
              </a:rPr>
              <a:t>讨论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：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食品为什么会有这么多种不同的包装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一般的包装袋上有哪几类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我们从食品包装袋上能获得哪些信息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95880" y="405432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A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需要避光的食物，包装一般是不透明的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怕磕碰的食物，包装大多比较硬实；肉制食品多为真空包装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4480" y="5181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B.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食品的配料、营养成分、保质期和保存方式…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79160"/>
            <a:ext cx="889308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C.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一般的食品包装上都有：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日期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保质期或有限期限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配料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条形码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净含量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标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厂家信息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QS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标识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产品标准号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标签认可号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生产许可证号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贮藏方法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版权声明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营养成分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图案       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广告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环保标志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口味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注意事项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食品图案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商品名称               （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）吸管孔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\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易撕口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列表记录几种食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生产日期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保质日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2209680"/>
          <a:ext cx="8229600" cy="4343400"/>
        </p:xfrm>
        <a:graphic>
          <a:graphicData uri="http://schemas.openxmlformats.org/drawingml/2006/table">
            <a:tbl>
              <a:tblPr/>
              <a:tblGrid>
                <a:gridCol w="1646280"/>
                <a:gridCol w="1706400"/>
                <a:gridCol w="1752840"/>
                <a:gridCol w="1673280"/>
                <a:gridCol w="145080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食品名称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生产日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质期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00"/>
                          </a:solidFill>
                          <a:latin typeface="Arial Narrow"/>
                        </a:rPr>
                        <a:t>保存条件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250920"/>
            <a:ext cx="88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比较几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保质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52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近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44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早生产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8414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最新鲜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4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短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508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保质期最长的食品是哪一种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1159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观察保质期最短和最长的两种食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9079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特点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食品的特点是否是影响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2133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包装和保存的方法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不同的包装和保存方法是否是保质期长短的原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328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两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食品的配料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看看是否有影响保质期长短的因素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44370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如果是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同一种食品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我们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还是选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保质期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短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食品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66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选择食品应根据实际需要：如果是短期内能食用完的，一般考虑保质期短的食品……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调查了解食品的配料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6000" y="105264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先看看食品的配料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 rot="5400000">
            <a:off x="-1192320" y="32878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牛奶饼干的配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20" y="189000"/>
            <a:ext cx="21913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把我们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方正姚体"/>
              </a:rPr>
              <a:t>熟悉的配料</a:t>
            </a: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方正姚体"/>
              </a:rPr>
              <a:t>找出来，推测它们在食品中起的作用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981000"/>
            <a:ext cx="7056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小麦粉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饼干的主要成分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白砂糖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精炼植物油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全脂奶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食盐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884160" cy="13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724360" y="333360"/>
            <a:ext cx="3097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转化糖浆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膨松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食用香精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乳化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653000"/>
            <a:ext cx="3456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知道吗，一些</a:t>
            </a:r>
            <a:r>
              <a:rPr b="0" lang="zh-CN" sz="3200" spc="-1" strike="noStrike" u="sng">
                <a:solidFill>
                  <a:srgbClr val="559085"/>
                </a:solidFill>
                <a:uFillTx/>
                <a:latin typeface="Arial"/>
                <a:hlinkClick r:id="rId1" action="ppaction://hlinksldjump"/>
              </a:rPr>
              <a:t>添加剂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对人体有害！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4348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884160" cy="133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83808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把我们不熟悉的配料找出来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猜猜它们是些什么东西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9T05:42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